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3.wmf" ContentType="image/x-wmf"/>
  <Override PartName="/ppt/media/image5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1561-75D2-43EC-A14C-C85154910BC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227-BD45-492B-9E6B-270AE0476D8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5E2-000E-49CB-89DC-C0DC9C23D83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FAD-BEC3-4A59-B7BE-1FEA96F2A4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BAA-D4FF-4C50-8017-DFB84E4A7C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664-96E0-4A76-B067-15CFBFE420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32E-AC3D-436A-89CB-9CB5F39DFDB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16A5-FD47-42A4-BBAA-0AF793F7B9C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ECE9-5464-4FA8-923C-DAF4D678D4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8900-54F7-4B11-A1D0-6D4C3B0C12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656E-EFCB-4B90-AF51-DB803A700A6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FD5-4A10-45E2-85F7-94071B969BC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404-7BCB-4A88-BCBA-77FA046C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52F-F40C-4067-9CD6-4D74D91E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1A0-2E1C-489A-BAC2-D64FD3F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00A-848C-492B-BECF-0058FC6F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E9A5-9D1A-4312-A5A2-DEE671B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2B65-44FA-42DD-8A09-7BFB5A4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F0BC-615B-4CA8-9867-5316BC7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7493-FC0F-4EB5-8C60-3AC8974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EC2-2425-4A75-B6B4-7A297EC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098-CAF9-4CE3-9E28-F041BCFE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842F-CAD1-4FC7-A377-E8F083C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006-EA3F-49D5-A3A3-7387656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AF15-B45D-4677-8729-192FFEE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16E-195C-48EC-A56D-2E12005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497C-DD6A-4E5C-A7C8-71ABEBAB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8A2-86F0-4FE6-9B6F-E24E9C8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3D9-34D8-4645-B5A3-7B9196D5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C6AD-0872-490C-9438-E40920D7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0A84-369C-415D-945E-E6AF5E5B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7F42-C2DB-4EC4-8123-2B9F10C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746A-E3B4-4A0C-8763-C49B6811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1684-B345-4FC3-8202-7C98738B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115-0764-463F-98D8-75583D2B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DB2B-0D1B-4897-8E20-496650B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DF1A-0613-4FF0-8716-CECF3DC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C6E4-B522-4234-AD91-A5C3F49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46A5-7A5F-4FBD-9654-0D15F99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944C-E707-451F-87E7-8C1F9987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91D1-7160-427F-B8D0-C0EF1DBB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B7C9-3423-4614-A0B7-CAD71834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367E-F74C-4A34-A020-0473B310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1272-8323-47DE-95C2-3DDBCE7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1289-0B3E-4F10-B7E4-1DBE0AF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E85-F9BF-4160-B519-7FF6E4D7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60F6-9BA2-4ACF-8F39-C990F724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6688-0F14-47AB-8622-3800331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2124-E293-482F-9B0B-6EDEFED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2A20-7C46-4C72-81B0-094CBDA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6577-8BEA-4BFA-9668-98D6305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B141-4529-45CB-A880-D2783ED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BF36-2913-45BF-8110-7CBA9CA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F195-F9CE-4AEE-AFE4-0325BBF5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3105-B4A9-411E-BE7E-C1E5EA92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510-8F4F-4589-AA6F-1635DD68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BDD-CFBC-46AE-B913-D2E3B18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08E-82D6-4EA3-BE66-4BEF13E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F94-7FE9-4E5F-B910-C427E39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D2-6557-45D7-B94D-58BCAED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683D-0D13-42EE-B1A8-C3F98673C9E1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81F-3DE5-4AF9-B86A-A9DFE89B282B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CF8-73E8-465F-9C7E-BD5CBFB4F25E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E4D-AE94-4F10-A6B7-8E4C4F32A9EC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2342-21CD-439E-B93E-1DF7819FDDE6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8C0-596C-4924-8610-B6D9810F1C2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13F-4BBF-4F1E-9A7E-CC4F3928A822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C9A-CF65-4A60-9D70-F4122017952E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735192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377 #5,6ef,7ef,8,9,11,12,15,16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 385#2,3,6cd,8,9-1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 far we have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ultiplied vectors by a scala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dded vect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oday we will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ultiply vectors in a way to produce a scal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is is called a Dot Produ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4: Find the angle betwee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1258920" y="2565360"/>
          <a:ext cx="5400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565360"/>
                    <a:ext cx="5400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400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Ex 5: The parallelogram OACB has one vertex,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t the origin and two non-parallel si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fined b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angle between the diagon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"/>
          <p:cNvGraphicFramePr/>
          <p:nvPr/>
        </p:nvGraphicFramePr>
        <p:xfrm>
          <a:off x="2771640" y="2708280"/>
          <a:ext cx="364356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708280"/>
                    <a:ext cx="3643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t Produc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lso called Scalar Product or Inner Produc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re two vectors an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the angle between them, then the dot product o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Note: The result is a scalar (no direc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916360" y="4221000"/>
          <a:ext cx="2711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221000"/>
                    <a:ext cx="2711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5435640" y="2997360"/>
          <a:ext cx="5713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2997360"/>
                    <a:ext cx="57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6"/>
          <p:cNvGraphicFramePr/>
          <p:nvPr/>
        </p:nvGraphicFramePr>
        <p:xfrm>
          <a:off x="6516720" y="3357720"/>
          <a:ext cx="1284120" cy="55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3357720"/>
                    <a:ext cx="1284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7"/>
          <p:cNvGraphicFramePr/>
          <p:nvPr/>
        </p:nvGraphicFramePr>
        <p:xfrm>
          <a:off x="900000" y="2828880"/>
          <a:ext cx="120816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2828880"/>
                    <a:ext cx="1208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Dot Produc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ommutativ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iv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Magnitud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ve with a scalar k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7"/>
          <p:cNvGraphicFramePr/>
          <p:nvPr/>
        </p:nvGraphicFramePr>
        <p:xfrm>
          <a:off x="2700360" y="2997360"/>
          <a:ext cx="1541520" cy="50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997360"/>
                    <a:ext cx="15415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2627280" y="3933720"/>
          <a:ext cx="13971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933720"/>
                    <a:ext cx="1397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2752560" y="3573360"/>
          <a:ext cx="278460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573360"/>
                    <a:ext cx="2784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"/>
          <p:cNvGraphicFramePr/>
          <p:nvPr/>
        </p:nvGraphicFramePr>
        <p:xfrm>
          <a:off x="4859280" y="4581360"/>
          <a:ext cx="29196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581360"/>
                    <a:ext cx="2919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Give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and the angle betwee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1403280" y="2565360"/>
          <a:ext cx="1209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565360"/>
                    <a:ext cx="1209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2411280" y="1989000"/>
          <a:ext cx="18734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1989000"/>
                    <a:ext cx="1873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9"/>
          <p:cNvGraphicFramePr/>
          <p:nvPr/>
        </p:nvGraphicFramePr>
        <p:xfrm>
          <a:off x="3132000" y="2565360"/>
          <a:ext cx="7192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565360"/>
                    <a:ext cx="719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"/>
          <p:cNvGraphicFramePr/>
          <p:nvPr/>
        </p:nvGraphicFramePr>
        <p:xfrm>
          <a:off x="900000" y="3068640"/>
          <a:ext cx="716040" cy="55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3068640"/>
                    <a:ext cx="716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1"/>
          <p:cNvGraphicFramePr/>
          <p:nvPr/>
        </p:nvGraphicFramePr>
        <p:xfrm>
          <a:off x="5435640" y="3068640"/>
          <a:ext cx="733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068640"/>
                    <a:ext cx="733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050920" y="2565360"/>
          <a:ext cx="86544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565360"/>
                    <a:ext cx="865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9"/>
          <p:cNvGraphicFramePr/>
          <p:nvPr/>
        </p:nvGraphicFramePr>
        <p:xfrm>
          <a:off x="900000" y="3068640"/>
          <a:ext cx="18590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068640"/>
                    <a:ext cx="1859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0"/>
          <p:cNvGraphicFramePr/>
          <p:nvPr/>
        </p:nvGraphicFramePr>
        <p:xfrm>
          <a:off x="3564000" y="2997360"/>
          <a:ext cx="12589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997360"/>
                    <a:ext cx="1258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1"/>
          <p:cNvGraphicFramePr/>
          <p:nvPr/>
        </p:nvGraphicFramePr>
        <p:xfrm>
          <a:off x="5724360" y="3068640"/>
          <a:ext cx="220536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3068640"/>
                    <a:ext cx="2205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4" name="Straight Arrow Connector 20"/>
          <p:cNvCxnSpPr/>
          <p:nvPr/>
        </p:nvCxnSpPr>
        <p:spPr>
          <a:xfrm>
            <a:off x="1186920" y="4653000"/>
            <a:ext cx="1081800" cy="289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5" name="Straight Arrow Connector 22"/>
          <p:cNvCxnSpPr/>
          <p:nvPr/>
        </p:nvCxnSpPr>
        <p:spPr>
          <a:xfrm flipV="1">
            <a:off x="1186920" y="4075920"/>
            <a:ext cx="100872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6" name="Straight Arrow Connector 24"/>
          <p:cNvCxnSpPr/>
          <p:nvPr/>
        </p:nvCxnSpPr>
        <p:spPr>
          <a:xfrm>
            <a:off x="4067280" y="4797000"/>
            <a:ext cx="10101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7" name="Straight Arrow Connector 26"/>
          <p:cNvCxnSpPr/>
          <p:nvPr/>
        </p:nvCxnSpPr>
        <p:spPr>
          <a:xfrm flipV="1">
            <a:off x="4067280" y="3789000"/>
            <a:ext cx="2160" cy="1008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28"/>
          <p:cNvCxnSpPr/>
          <p:nvPr/>
        </p:nvCxnSpPr>
        <p:spPr>
          <a:xfrm>
            <a:off x="6732720" y="4869000"/>
            <a:ext cx="1080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9" name="Straight Arrow Connector 30"/>
          <p:cNvCxnSpPr/>
          <p:nvPr/>
        </p:nvCxnSpPr>
        <p:spPr>
          <a:xfrm flipH="1" flipV="1">
            <a:off x="5939640" y="4149360"/>
            <a:ext cx="79308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60" name="Object 12"/>
          <p:cNvGraphicFramePr/>
          <p:nvPr/>
        </p:nvGraphicFramePr>
        <p:xfrm>
          <a:off x="1246320" y="5445000"/>
          <a:ext cx="125388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6320" y="5445000"/>
                    <a:ext cx="125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3"/>
          <p:cNvGraphicFramePr/>
          <p:nvPr/>
        </p:nvGraphicFramePr>
        <p:xfrm>
          <a:off x="3851280" y="5373720"/>
          <a:ext cx="135576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73720"/>
                    <a:ext cx="13557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4"/>
          <p:cNvGraphicFramePr/>
          <p:nvPr/>
        </p:nvGraphicFramePr>
        <p:xfrm>
          <a:off x="6443640" y="5300640"/>
          <a:ext cx="148752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5300640"/>
                    <a:ext cx="14875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8"/>
          <p:cNvGraphicFramePr/>
          <p:nvPr/>
        </p:nvGraphicFramePr>
        <p:xfrm>
          <a:off x="3635280" y="4076640"/>
          <a:ext cx="3603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407664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9"/>
          <p:cNvGraphicFramePr/>
          <p:nvPr/>
        </p:nvGraphicFramePr>
        <p:xfrm>
          <a:off x="6516720" y="4005360"/>
          <a:ext cx="35892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6720" y="4005360"/>
                    <a:ext cx="358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20"/>
          <p:cNvGraphicFramePr/>
          <p:nvPr/>
        </p:nvGraphicFramePr>
        <p:xfrm>
          <a:off x="1258920" y="3860640"/>
          <a:ext cx="360360" cy="43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58920" y="386064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21"/>
          <p:cNvGraphicFramePr/>
          <p:nvPr/>
        </p:nvGraphicFramePr>
        <p:xfrm>
          <a:off x="4427640" y="4869000"/>
          <a:ext cx="43164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3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2764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22"/>
          <p:cNvGraphicFramePr/>
          <p:nvPr/>
        </p:nvGraphicFramePr>
        <p:xfrm>
          <a:off x="1258920" y="4869000"/>
          <a:ext cx="43164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5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5892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23"/>
          <p:cNvGraphicFramePr/>
          <p:nvPr/>
        </p:nvGraphicFramePr>
        <p:xfrm>
          <a:off x="7236000" y="4869000"/>
          <a:ext cx="43164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7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23600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Box 25"/>
          <p:cNvSpPr/>
          <p:nvPr/>
        </p:nvSpPr>
        <p:spPr>
          <a:xfrm>
            <a:off x="468360" y="213372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ign of the dot product depends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g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use of dot product is to test if two vectors are perpendicular……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wo vectors are perpendicular IFF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"/>
          <p:cNvGraphicFramePr/>
          <p:nvPr/>
        </p:nvGraphicFramePr>
        <p:xfrm>
          <a:off x="2843280" y="4221000"/>
          <a:ext cx="2020680" cy="8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221000"/>
                    <a:ext cx="202068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48428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ot Product in Component (Algebraic) For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If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If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Read section 7.4 to see proo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835280" y="2492280"/>
          <a:ext cx="517500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492280"/>
                    <a:ext cx="5175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5"/>
          <p:cNvGraphicFramePr/>
          <p:nvPr/>
        </p:nvGraphicFramePr>
        <p:xfrm>
          <a:off x="1403280" y="3068640"/>
          <a:ext cx="26640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2664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1763640" y="4076640"/>
          <a:ext cx="547236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076640"/>
                    <a:ext cx="547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1403280" y="4581360"/>
          <a:ext cx="3313080" cy="60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4581360"/>
                    <a:ext cx="33130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2: I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4"/>
          <p:cNvGraphicFramePr/>
          <p:nvPr/>
        </p:nvGraphicFramePr>
        <p:xfrm>
          <a:off x="1692360" y="1989000"/>
          <a:ext cx="4365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1989000"/>
                    <a:ext cx="4365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2195640" y="3068640"/>
          <a:ext cx="73332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068640"/>
                    <a:ext cx="733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3: For what value of k are the vec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1403280" y="2565360"/>
          <a:ext cx="46386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565360"/>
                    <a:ext cx="4638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03T18:12:54Z</dcterms:modified>
  <cp:revision>207</cp:revision>
  <dc:subject/>
  <dc:title>2.2 Derivatives of Polynomial Functions</dc:title>
</cp:coreProperties>
</file>